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2036-08D0-41FE-96E9-6F8D151D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6ADB-D76A-45C1-901F-1706B98A4DD4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575A-5F9D-48DD-B8E6-1DA0530EA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272F-49BC-4C82-A7E4-2F0FDE289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D16A-0C57-4BF2-8B0F-AA323526B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2D6E-D350-4922-9949-52D1D7AFD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E3A1C-C1D1-4F62-9FD9-96D95D1F04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B563E-8366-4394-BBDF-DC68FA2712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93C41-3FAB-485B-B5B3-CC1082B096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5160E-DA55-409B-9A18-7F049F0F9E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BDF13-6DB0-4DED-89C5-2730C51B25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42069-74F7-4957-A3A8-BEC3D15AC7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40333-87EF-4B98-8B40-19A719D72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F384-63B3-4D12-AC00-91C1B6DCB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D000E-544A-4A5F-B1B5-A3AE19D7C2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4E624-21CD-4152-9E97-4A586B25BE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AE2CC-A635-46A9-9D55-24F85B1CE4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408F3-9CE8-4D77-B3B0-250F0B9336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3E82D-E413-4F13-B4E8-6AD059CA6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83CA-7CAA-4CD4-AC01-3C7BD6B7F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04A1-2B9B-4187-8B78-8C37EFE06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F89F-BCE0-46DA-87AD-A31235EF0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B27C-0AD3-413E-9E42-20BF8D466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3015-B6A2-460D-B72C-90E8E4AB1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C328-B194-4C47-AA60-6125E34D8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1956-48A4-4CC5-924B-D6A9B1F67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9662925-0081-4E2B-ABE3-05BAB5B2D91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A0B46C87-CDE5-45A9-9DCA-E74A2A8E29A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457DC25-84BF-4C09-8587-7EFCE41E98D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181480" y="2670120"/>
            <a:ext cx="2895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33F2199-BA46-425C-A1AA-5A08AFDC0C8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brought to attention of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found in standard-form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 an unequal bargaining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3CA4F19-353F-42BD-AC27-90E2E8DB4EC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alse and misleading statements that induce a person to enter into a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 term of contract, can sue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tatement of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ement of opinion actionable if made by ex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generally not misrepresentation, unless duty to disclose (duty of good fai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D30A4A0-53BA-47B8-9643-C3B1A627E52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noc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leading another without knowing or being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remedy is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goods destroyed or not available, no other remedy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erson claiming resc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contract affi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910B0B7-924C-437D-9038-0DCD9C7E79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audul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and knowingly misleading another to induce him/her to enter into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ade innocent misrepresentation, and later learn it is false, but fail to correct it, it becomes fraudu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punitive damages in extre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sue for innocent or negligent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60BC577-DF18-48B1-8535-C8DCF8FAA81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person making misrepresentation should have known what he/she was saying was false, he/she was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386BBA0-DFEF-4744-B2B8-191C1C4CE0E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iminal Fra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fic provisions of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deal with fraudulent activity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. 361-365 prohibit knowingly making false representations intended to induce someone to act on the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ections deal with specific areas of fraud including the falsification of employee records, books, and other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73CCCB3-AA94-4629-8F3B-27FB1F9AB2E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tering into a contract because of coe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be violence, financial pressure, scand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against you, your family, your property, o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s usually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also be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C615006-4D65-48F3-8385-C784B4C2E7B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due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use of trus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ed in certai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yers, doctors, trustees, guardians, religious advisors, adults with infant children, adult children with aging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 b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ave to prove in other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4A16CE2-9E83-47AE-8C06-DD2A46609C5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conscion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aking advantage of vulnerable person’s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poverty, mental impairment (short of in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rgaining positions of parties are un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grossly unfair to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can set aside or modif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regulat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7598447-A0A8-45D5-8049-29E422AADF3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the parties to a contract are bound to it or may enforc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ests in land bind subsequent owners of th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usts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F2F7DD3-CEA9-4182-839F-77D0048860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vents that can bring a contract to an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various mistakes that can end or otherwise affect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four forms of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effects of duress and undue influence on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A423058-8E87-40B7-A1DF-C3C0BA28692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s acting for princip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never a party, so no privity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taking over obligations of another in a contract; no privity issues as new contrac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clauses often extended to employees, thus ignoring pr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F4D8DF3-0812-4CBF-A488-721D261F97B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nsferring a benefit under a contract to a third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553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2580921-A4C0-41EE-87FC-AD90BBA5459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assignor and assignee must join together to sue if debtor fails to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assignment allows assignee to sue directly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absolute (complete and uncondi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in wri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per notice was given to deb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4013E97-E359-469E-B1D9-17985A04B43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only assign the benefits, not the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takes assignment “subject to the equ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cannot be in a better position than the assig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9CAF987-D215-402D-9FF8-E0C6287A13F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olled by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ills of Exchang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eely transferable from party to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nocent third party (called 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may enforce a negotiable instrument against the person who mad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lude promissory notes, cheques, and bills of exchange (ak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draft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6B087EE-D34B-409D-B423-0BAD9F9BF3D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missory 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promises to pay another a certain sum of money at some future date or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73818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773CF6B-76FD-436C-A5D8-D0C7E290AE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e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er orders bank to pay a certain sum of money to a third party (th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aye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r>
              <a:rPr b="0" lang="en-CA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0866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B877DA3-12A3-427B-920E-C90C3E0E34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ll of ex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an order to any person or business to pay money to someone either now or at a futu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81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C4F1B14-CF70-4AAF-B091-623AD95BFDD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ocent third party who acquires possession of instr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collect whether original obligations me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instrument is endorsed, that person can also be held liable for amount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6CF7225-C4D7-4879-BF58-9C062300148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harge of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83BCF42-5EA0-4B0D-8A88-4621880F048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lications of privity and assignment for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a contract can be breached or otherwise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remedies that are available for breach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isk-reduction strategies when forming or ending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A0A0843-0A4C-428A-8DC5-4A834936A4B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parties have performed as required under the contract, it is discha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s - maj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contract ends (if other party wants to end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rranties - min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obligation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seek damages from breaching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EDEE9CD-57B9-4A0A-9F82-418F8C643BE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all obligations have been fulfilled,  but a condition is breached in a mino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compensation for small part rem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requires payment, must be cash unless otherwis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mits on coinage se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urrency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155E7D9-F9D8-4339-808D-82FCEE6464B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der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dy, willing, and able to perform; other party refuses to accep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has been breached by refusal; performance no longer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bt treated differently – if party refuses to accept payment, money is still owed but debtor must seek payment and bear all costs of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CE4F0A9-24C2-478D-986B-598C8F76CB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omplete or improper performance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pudiation – breach by refusal to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– repudiation before performance is due gives victim two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at contract as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inue to dem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99AD423-88B3-45D3-B778-589B514A57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is treated as ended, victim may sue for breach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demands performance, unexpected events may discharge both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of repudiation does not perform during waiting period, he/she will be in b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oice of remedy is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A155D99-407C-4219-9426-D495B0CC9F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attempt to lessen liability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arrowly interpreted by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undamental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each of very esse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emption clauses can still apply if properly w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cases, a breach of contract can be a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1E8A530-A818-47BD-969E-C18BEE573A5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utside, unforeseen event that is out of the control of either party and renders contract either impossible to perform or completely different than what parties contemp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used by things such as illness, destruction of subject matter, government actions, natural dis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7D88432-02BF-4404-A8E9-BF1F1ABE9AE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ffect used to be “let the loss lie where it fal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jurisdictions now have legislation that require payment for benefits received and the return or apportionment of any 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C019202-47F5-4120-8114-0E0573E6C9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modify or end a contract by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elements of contract must be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impose change on the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ach side must receive new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just relieving each of his/her remaining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ly one side relieved, change is not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06EEEFB-CC8E-4E7B-9032-757F97A0D0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tself may contain conditions for changing or ending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precedent - Contract begins only if conditions are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subsequent - Terms in contract specify when continuing obligations will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A475376E-2050-4F61-8C19-8698AAF1B39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isp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revolve aro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existence of the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conduct of the parties at time of negotiating th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ance of obligations under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A704D05-6C4E-49EC-9D82-254E7FEA0B6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turning parties to original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ensation to attempt to put victim in position he/she would have been in if contract properly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times includes emotional stress or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D6BF85A-80FC-4ED1-9BDA-50F23F55CC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quidated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 in contract to limit da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mount forfeited as pre-estimate of dam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n payme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payment of purchase price; not meant to be forfe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ED91DC8-B8F1-4939-9192-D3658EAFD35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ust mitigat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must be reasonably foreseeable at time contract enter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available if damages not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arty cla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innocent third party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8741DB7-2519-4FEA-A1B8-45F0F51BDA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breaching party to perform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subject matter of contract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a person to stop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260EDF0-38C0-4588-BA76-63C2BF0896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close financial records and dea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profits of wrongdoing to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a reasonable price for services ren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150431D-91E4-4EDC-B34B-2B434D09696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parties have a different understanding of terms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ar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have made same mis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only in recording the terms, may ask court to rectify (correct)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98876A2-643E-477F-8E3B-46B8F5D63F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 different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will imply most reasonable interpretation and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both interpretations equally reasonable, 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2FBD17A-AA55-4A71-BCE1-A81FE128FF6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has no effect on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aveat emptor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let the buyer bew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if different understanding is a result of misrepresentation would it be actio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C340CD8-D627-4B1D-9869-238A42A136E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mistake as to nature of document signed, contract may b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Non est factum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It is not my 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as to nature of document due to carelessness, claim is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s and words given “reasonable mea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ustry usage for special or 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9A75C2B-881D-42BB-943D-C4B66E3A530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known as exculpatory, exclusion, or limit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ttempt to limit or eliminate liability for one party to th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e to one-sided nature, courts interp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 narrowly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ainst the favoure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4:35Z</dcterms:created>
  <dc:creator>Client Name</dc:creator>
  <dc:description/>
  <dc:language>en-US</dc:language>
  <cp:lastModifiedBy>User</cp:lastModifiedBy>
  <dcterms:modified xsi:type="dcterms:W3CDTF">2012-04-24T16:13:26Z</dcterms:modified>
  <cp:revision>148</cp:revision>
  <dc:subject/>
  <dc:title>Slide 1</dc:title>
</cp:coreProperties>
</file>